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880094"/>
        <c:axId val="84616293"/>
      </c:barChart>
      <c:catAx>
        <c:axId val="26880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16293"/>
        <c:crosses val="autoZero"/>
        <c:auto val="1"/>
        <c:lblAlgn val="ctr"/>
        <c:lblOffset val="100"/>
        <c:noMultiLvlLbl val="0"/>
      </c:catAx>
      <c:valAx>
        <c:axId val="846162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880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D77C-355A-4B77-860E-04F5CE67E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C1E2D-A61C-4403-8580-3648EDC41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8196C-0154-42F7-AF67-6548B5BBE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F37AC-7FF7-4C35-B10E-877C86B63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832B-AABB-49E9-BB24-0A1CD6696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CD17-794C-4E91-81CF-972B8ACD7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A2F-75BE-4D98-A6D3-5A846C74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E2821-ED47-4940-803A-F04647B9E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E13F6-84E3-4200-A443-ADF7E30592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D33D4-016E-4A01-A57C-6EB932C66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F3CF-501A-4D13-B12D-DD0FE9716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9954-843C-4330-8336-DF4690861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9FBB6D-5870-4638-88A3-BC42C85E88C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