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02098"/>
        <c:axId val="91612034"/>
      </c:barChart>
      <c:catAx>
        <c:axId val="44402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2034"/>
        <c:crosses val="autoZero"/>
        <c:auto val="1"/>
        <c:lblAlgn val="ctr"/>
        <c:lblOffset val="100"/>
        <c:noMultiLvlLbl val="0"/>
      </c:catAx>
      <c:valAx>
        <c:axId val="91612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2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BD8-9989-40BD-8547-A6AA0EBD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A1D-4280-4D21-9EDE-556E513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D9A-33DE-4F4B-A0AC-1165A1A8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A7B-2DA2-425E-A8D1-E5A764A8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D9A-958C-4C3A-A006-EFA08817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DD9-10C5-42A7-ABFA-38DA9054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023-0849-4F87-A013-586E2FB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8D2-2AD3-4442-9FBF-FC984D8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424-E2BD-425B-A871-339CA82F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776-AEA6-4B20-8AF2-4E389D1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873-29FD-434E-B8B0-0B20781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6EB-5888-430A-832D-5CFD965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FB3B5-08C7-407D-845C-283D85966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